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4ED5CE-497C-4236-A7E8-B96B44E83EF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82D-74C7-4F3F-9352-F775D15B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395680"/>
            <a:ext cx="616896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C40-A8DA-4D12-B976-CC44DCD2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39568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240" y="539568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1D3-BB16-43CF-BDF2-11B2AF7C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8920" y="213372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4760" y="213372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39568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8920" y="539568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4760" y="539568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231-E611-4131-8209-F0BD9D44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91E-A96C-42FB-8F61-2D1CC281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976B-45E9-4FB2-8893-8C465BB7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AFE-3370-45E2-ABFD-87BED1D7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406-B07E-44F0-AD75-02CD70BC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75960"/>
            <a:ext cx="61689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3B1-D835-40AE-AB8D-1E397101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39568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02D-3ED9-4A25-ABA7-0AA9EAB8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240" y="539568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5715-DB8B-4EC9-B646-0B5623C3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395680"/>
            <a:ext cx="616896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4300-DB1A-4717-AB52-C6CA2F8A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696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2880" y="8326080"/>
            <a:ext cx="21682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696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FB481-376D-4EAB-A971-A586517E8A5E}" type="slidenum">
              <a: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20640" y="7737480"/>
            <a:ext cx="58294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Scuola Primaria Pecorini (G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Classe I B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70000" y="2638440"/>
            <a:ext cx="5670360" cy="2881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0"/>
                <a:gd name="adj2" fmla="val -420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n le mani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ll'acqu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566640" y="252360"/>
            <a:ext cx="58294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Progetto Acqua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Dis09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324480" cy="853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is10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6400800" cy="807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Diap01" descr=""/>
          <p:cNvPicPr/>
          <p:nvPr/>
        </p:nvPicPr>
        <p:blipFill>
          <a:blip r:embed="rId1"/>
          <a:stretch/>
        </p:blipFill>
        <p:spPr>
          <a:xfrm>
            <a:off x="-533520" y="1676520"/>
            <a:ext cx="789948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Diap02" descr=""/>
          <p:cNvPicPr/>
          <p:nvPr/>
        </p:nvPicPr>
        <p:blipFill>
          <a:blip r:embed="rId1"/>
          <a:stretch/>
        </p:blipFill>
        <p:spPr>
          <a:xfrm>
            <a:off x="6480" y="1440"/>
            <a:ext cx="6851520" cy="9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Diap03" descr=""/>
          <p:cNvPicPr/>
          <p:nvPr/>
        </p:nvPicPr>
        <p:blipFill>
          <a:blip r:embed="rId1"/>
          <a:stretch/>
        </p:blipFill>
        <p:spPr>
          <a:xfrm>
            <a:off x="0" y="0"/>
            <a:ext cx="6905520" cy="9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Diap04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789948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Diap05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Diap06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78994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3080" y="-360"/>
            <a:ext cx="6168960" cy="83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Diap07" descr=""/>
          <p:cNvPicPr/>
          <p:nvPr/>
        </p:nvPicPr>
        <p:blipFill>
          <a:blip r:embed="rId1"/>
          <a:stretch/>
        </p:blipFill>
        <p:spPr>
          <a:xfrm>
            <a:off x="-457200" y="1600200"/>
            <a:ext cx="789948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Diap08" descr=""/>
          <p:cNvPicPr/>
          <p:nvPr/>
        </p:nvPicPr>
        <p:blipFill>
          <a:blip r:embed="rId1"/>
          <a:stretch/>
        </p:blipFill>
        <p:spPr>
          <a:xfrm>
            <a:off x="-457200" y="1600200"/>
            <a:ext cx="789948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836440"/>
            <a:ext cx="58291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8520" y="52700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Dis0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00800" cy="868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Diap09" descr=""/>
          <p:cNvPicPr/>
          <p:nvPr/>
        </p:nvPicPr>
        <p:blipFill>
          <a:blip r:embed="rId1"/>
          <a:stretch/>
        </p:blipFill>
        <p:spPr>
          <a:xfrm>
            <a:off x="-533520" y="685800"/>
            <a:ext cx="7899480" cy="77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Diap10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789948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Diap11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789948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Dis02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5486400" cy="67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is0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096240" cy="83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is04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6095880" cy="76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is05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6248160" cy="83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s0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00800" cy="868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Dis07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400800" cy="861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s08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400800" cy="8458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5:21:10Z</dcterms:created>
  <dc:creator>Direzione Didattica</dc:creator>
  <dc:description/>
  <dc:language>en-US</dc:language>
  <cp:lastModifiedBy>Himself</cp:lastModifiedBy>
  <dcterms:modified xsi:type="dcterms:W3CDTF">2010-07-17T07:54:51Z</dcterms:modified>
  <cp:revision>13</cp:revision>
  <dc:subject/>
  <dc:title>Diapositiva 1</dc:title>
</cp:coreProperties>
</file>